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98B5-2F71-4A4C-8429-AC3C9914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0DA-7E90-448D-9CEE-59D3B01E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this week’s learning by either crea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Fraye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other graphical representation (e.g., a Mind Map) to reflect their new lear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visit the Math Coaching graphic introduced on Tuesday morning (Session 2A) to discuss the remaining two parts of the cycle: implementation and debrie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individually reflect on their own learning over the course of the week and set a SMART goal for implementing one or two new strategies into their classroom program (set up check-in buddies and provide template for contact info if desi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FAB-8B06-431B-ADE9-0F469C35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52840"/>
            <a:ext cx="5670360" cy="4216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ors are reminded to cue cross-breakout groups for movement to next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1CB-5CCD-4E41-B300-FD064847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EDB-BB67-495E-BA20-DAACE768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0D4-FB6B-47B0-988D-2C50D6DC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B23-A961-4DF1-8440-04749A52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F19A-89C3-4748-9A76-C33B3515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BEB-DE06-40FE-85AE-2E0229F5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62C0-50C2-41CA-B21C-9BB87B1E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9E49-3275-4424-9B28-F519698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485-5FE0-49D8-8CB8-F8DDA0B5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774A-5338-4869-92C5-71C234B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0787-AC96-4608-A1C0-1C296A22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A11-E45C-4094-BF6E-6C470EA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38E7-FC45-4703-B370-2F853862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4B6-07E1-4AD3-BE42-287E870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6C44-FE99-4B9F-A3E7-D9ABB60C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929C-2D1E-4C71-ADDE-4199BF01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E5EB-A625-4D93-9328-7D124302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B68-EEB1-436E-B219-0BECF650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818-CE75-4C39-98EC-3F74389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65F-37A8-40D3-9B93-A611D03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56F-CC67-4EC4-8D24-5AE8C3C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8F1-ACDC-4EDA-BD2E-3BCCB86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99D-3074-476C-82B0-7C72CBCD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BE3-67FC-4274-8D2A-BA7F612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987D-4359-47E3-8E1E-320439C8F18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18E6-A95B-41CD-848A-DF896BE27F3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Grades 7/8 Breakout Session 4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encouraged to share your observations as a collective throughout the carou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carousel, each person will be asked to record 1-5 words that describe the connections made during the carousel on the graffiti paper posted outside of Central H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Review and Reflec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view your Frayer Models for Proportional Reasoning from Monday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reate a graphical representation of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(mind map, concept map, chart, etc.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ostcards - set SMART goal for you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Plenary Focu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: Open task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3000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rategies for opening up clos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aff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strategies for opening closed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prompts for scaffold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hree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cc33"/>
                </a:solidFill>
                <a:latin typeface="Arial"/>
              </a:rPr>
              <a:t>Mi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cc33"/>
                </a:solidFill>
                <a:latin typeface="Arial"/>
              </a:rPr>
              <a:t>review steps to open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pen closed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Arial"/>
              </a:rPr>
              <a:t>Consoli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visit Frayer model from Monday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flect on learning from sess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set an individual SMART goal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ich questions are closed question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3428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rt through questions you visited on 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questions that are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Process 3"/>
          <p:cNvSpPr/>
          <p:nvPr/>
        </p:nvSpPr>
        <p:spPr>
          <a:xfrm>
            <a:off x="357120" y="1214280"/>
            <a:ext cx="8501040" cy="521496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71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Marian’s Strategies for Opening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3000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ing a question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ing for similarities and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lacing a number with a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ing for a numb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e (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Good Questions From Dr. Smal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Process 3"/>
          <p:cNvSpPr/>
          <p:nvPr/>
        </p:nvSpPr>
        <p:spPr>
          <a:xfrm>
            <a:off x="357120" y="1357200"/>
            <a:ext cx="8501040" cy="507204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closed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airs, use Marian’s criteria to open questions from Monday’s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opened up tasks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ve two of the other pair's tasks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vide feedback on the tasks they solved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the opened task allow students at all levels of understanding to particip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the opened task allow for greater development of mathematical process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357120" y="785880"/>
            <a:ext cx="8501040" cy="564336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a number.  This is your GROUP #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morning you will report to your first breakout room at 8:30am (see schedul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4560" y="4567320"/>
            <a:ext cx="8245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K-12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will carousel to each breakout group to examine the artifacts and/or visual representations of lear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reakout group representative will be assigned the role of 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our gu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for their focused breakout room visit.  This is your opportunity to highlight key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9T19:18:52Z</dcterms:modified>
  <cp:revision>179</cp:revision>
  <dc:subject/>
  <dc:title>Slide 1</dc:title>
</cp:coreProperties>
</file>